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1B95-53E8-446F-B8BE-4137F689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93B83-2DD4-4D0F-8892-CDA15613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6675-20A8-4C41-B556-2016F0A0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4F087-0780-4134-AB65-546EB55F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A6079-4145-4004-9E6F-BDEA031C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6BCC-EBB0-4FB0-A892-0DBA794B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88CC-994C-4502-B3F5-E74F1E20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4FBF-9F54-4A2E-9A24-1AD6057C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BAE94-94E6-4F19-B0A6-49E79A14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C809-6EDB-46D4-9F84-DADD0B38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1ADC-75AC-46A4-B4BE-D9B7D59B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DC929-D9DB-4DC2-AFA7-B0AE317F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BE85-3319-41E8-A2E8-2DF1BC7E7A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32448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Times New Roman"/>
              </a:rPr>
              <a:t>La casquette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8960" y="487656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8e8d8c"/>
                </a:solidFill>
                <a:latin typeface="Arial"/>
              </a:rPr>
              <a:t>Et si on racontait l’histoire de la casquett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3244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Times New Roman"/>
              </a:rPr>
              <a:t>La casquette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e8d8c"/>
                </a:solidFill>
                <a:latin typeface="Arial"/>
              </a:rPr>
              <a:t>Contexte</a:t>
            </a:r>
            <a:r>
              <a:rPr b="0" i="1" lang="en-US" sz="3600" spc="-1" strike="noStrike">
                <a:solidFill>
                  <a:srgbClr val="8e8d8c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vous venez de voir un truc incroyable à l</a:t>
            </a:r>
            <a:r>
              <a:rPr b="0" lang="ja-JP" sz="2800" spc="-1" strike="noStrike">
                <a:solidFill>
                  <a:srgbClr val="8e8d8c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école qui est arrivée à un de vos amis et vous allez créer un petit film qui raconte cette histoir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e8d8c"/>
                </a:solidFill>
                <a:latin typeface="Arial"/>
              </a:rPr>
              <a:t>Tâche</a:t>
            </a: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: Petit film sur le modèle de la casquett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e8d8c"/>
                </a:solidFill>
                <a:latin typeface="Arial"/>
              </a:rPr>
              <a:t>Audience</a:t>
            </a: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: La class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Times New Roman"/>
              </a:rPr>
              <a:t>La casquette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e8d8c"/>
                </a:solidFill>
                <a:latin typeface="Arial"/>
              </a:rPr>
              <a:t>But</a:t>
            </a:r>
            <a:r>
              <a:rPr b="0" i="1" lang="en-US" sz="3600" spc="-1" strike="noStrike">
                <a:solidFill>
                  <a:srgbClr val="8e8d8c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Raconter l’histoire du chat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e8d8c"/>
                </a:solidFill>
                <a:latin typeface="Arial"/>
              </a:rPr>
              <a:t>La bonne méthode</a:t>
            </a: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Utiliser des adjectifs pour décrire les émotions de l</a:t>
            </a:r>
            <a:r>
              <a:rPr b="0" lang="ja-JP" sz="2800" spc="-1" strike="noStrike">
                <a:solidFill>
                  <a:srgbClr val="8e8d8c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élève e ce qu</a:t>
            </a:r>
            <a:r>
              <a:rPr b="0" lang="ja-JP" sz="2800" spc="-1" strike="noStrike">
                <a:solidFill>
                  <a:srgbClr val="8e8d8c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il faisait d</a:t>
            </a:r>
            <a:r>
              <a:rPr b="0" lang="ja-JP" sz="2800" spc="-1" strike="noStrike">
                <a:solidFill>
                  <a:srgbClr val="8e8d8c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habitud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Utiliser des verbes d’action pour décrire ce qui s</a:t>
            </a:r>
            <a:r>
              <a:rPr b="0" lang="ja-JP" sz="2800" spc="-1" strike="noStrike">
                <a:solidFill>
                  <a:srgbClr val="8e8d8c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est passé 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Utiliser des mots clés pour introduire vos actions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e8d8c"/>
                </a:solidFill>
                <a:latin typeface="Arial"/>
              </a:rPr>
              <a:t>Utiliser Imparfait et Passé composé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able 2" descr=""/>
          <p:cNvPicPr/>
          <p:nvPr/>
        </p:nvPicPr>
        <p:blipFill>
          <a:blip r:embed="rId1"/>
          <a:stretch/>
        </p:blipFill>
        <p:spPr>
          <a:xfrm>
            <a:off x="-12600" y="73080"/>
            <a:ext cx="8796240" cy="687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GREBERT,VIVIANE</cp:lastModifiedBy>
  <dcterms:modified xsi:type="dcterms:W3CDTF">2017-05-08T16:20:55Z</dcterms:modified>
  <cp:revision>86</cp:revision>
  <dc:subject/>
  <dc:title>Allez, viens! – Level 2</dc:title>
</cp:coreProperties>
</file>